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6 December 2005 – version 3.0 – Page </a:t>
            </a:r>
            <a:fld id="{9A6E183A-B4BF-421C-9B10-EAB413013259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2349000"/>
            <a:ext cx="6119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nion"/>
                <a:ea typeface="Times New Roman"/>
              </a:rPr>
              <a:t>Default settings for User Preferences in Primavera Project Management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4005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This guide visualise the preferred- and standard settings of “User Preferences in Primavera Project Manager.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Verify – and if necessary change – these set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Startup Filter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4360" y="4221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5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Time Unit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84464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836640"/>
            <a:ext cx="7840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Times New Roman"/>
              </a:rPr>
              <a:t>User Preferences is placed under EDIT in the menu 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3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Date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13372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Currency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3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2421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Assistanc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13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292428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Assistanc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13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3213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Password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342900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83534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rmAutofit/>
          </a:bodyPr>
          <a:p>
            <a:pPr marL="482760" indent="-48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NB: Immediately change the password provided by Primavera Sup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Resource Analysi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371628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User Preferences (Calculations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5543280" cy="430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4360" y="3933720"/>
            <a:ext cx="1150920" cy="433440"/>
          </a:xfrm>
          <a:prstGeom prst="ellipse">
            <a:avLst/>
          </a:prstGeom>
          <a:noFill/>
          <a:ln w="381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5:39:06Z</dcterms:created>
  <dc:creator>Jacob Juul</dc:creator>
  <dc:description>2.0 Released 16.12.05 Jacob Juul
2.1. - 16.12.05 - jju - updated as BenQ template
Version number changed to 3.0 - 25 January 2006 - OSM</dc:description>
  <dc:language>en-US</dc:language>
  <cp:lastModifiedBy>Ole Sletting Madsen</cp:lastModifiedBy>
  <dcterms:modified xsi:type="dcterms:W3CDTF">2006-01-25T10:22:23Z</dcterms:modified>
  <cp:revision>10</cp:revision>
  <dc:subject/>
  <dc:title>Primavera Project Manager - User Preferences</dc:title>
</cp:coreProperties>
</file>